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8D2-2952-4B8C-9CCE-94A215B0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CFB-05B4-4F51-8CD8-983B5636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CD5-4A97-4048-A10F-B469BA5F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E51-F6FE-44D6-8B22-EE34554B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B4D-F19A-4220-BB18-5353FEDE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429-3CCB-4A4D-8459-D92C1FD3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06A-E4B9-469A-B1B4-633C8908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B4D-6DF1-4A01-A989-E208F142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1EE-1A28-42F0-A78E-DDD78C84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49C-2769-4AA1-B34E-D91D8A1A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D84-F4FD-43AA-8C63-592C82B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22B-E7B5-476F-BD00-BF17EB7F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1370-4B80-4FB4-BD5F-DACCC5FED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3168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9:30:23Z</dcterms:created>
  <dc:creator>Admin</dc:creator>
  <dc:description/>
  <dc:language>en-US</dc:language>
  <cp:lastModifiedBy>Admin</cp:lastModifiedBy>
  <dcterms:modified xsi:type="dcterms:W3CDTF">2009-04-17T20:13:24Z</dcterms:modified>
  <cp:revision>4</cp:revision>
  <dc:subject/>
  <dc:title>Snímek 1</dc:title>
</cp:coreProperties>
</file>