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96AC-308C-4698-82D7-3B7FF0DA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D6C-B481-46E1-B07F-56C51776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01E3-D7F7-4059-BCC6-9078EB83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DEC-8A5E-4EF8-929D-0AD51A12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41D-3DB9-4CF3-8606-6064FCCF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08D-1133-4045-9D30-BB6BEA24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6ACC-C715-433E-8245-A672819E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3627-501B-4D4F-BF89-3DAEF218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E326-3A1C-43AB-ACD5-ECCF37FA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DC37-8F34-4A78-BB85-350FB7F0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BB6-B35F-4E35-9E53-39819168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9478-0267-44DC-B965-0CB6CD59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BB5F-EB44-435A-AD25-961AFC8E5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ps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ps13cas3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57800" y="2362320"/>
            <a:ext cx="35053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as G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tný čas = lokálny – 2 hod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imný čas = lokálny – 1 hod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ps14vrs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gps15online1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gps16online1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ps18vytvaranie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gps19vytvorene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ps20podrobnosti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ps21stiahnut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ps02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ps10obchod1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ps11obchod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ps12obchod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ps12obchod2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ps12obchod3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ps13cas2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gps13cas1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0:34:49Z</dcterms:created>
  <dc:creator>Admin</dc:creator>
  <dc:description/>
  <dc:language>en-US</dc:language>
  <cp:lastModifiedBy>Miroslav Kozuch</cp:lastModifiedBy>
  <dcterms:modified xsi:type="dcterms:W3CDTF">2012-03-12T16:44:28Z</dcterms:modified>
  <cp:revision>4</cp:revision>
  <dc:subject/>
  <dc:title>Snímek 1</dc:title>
</cp:coreProperties>
</file>