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84C-EE88-438A-AE61-0CABDE65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2F5-0064-4D90-A13F-51CA60CC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CF2-C5EB-432F-8477-0408A0B6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46C-67A9-4658-A029-EEAC7682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17E-4705-47CC-BCAF-12209517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772-65A2-4CA3-9E64-96F292AE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87C-2DB6-49D6-8C87-A51C2673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12FF-B1DE-4746-8425-F2FEFD0D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E59-1B27-4D44-AF4F-CDE2ADD9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DBD-5936-4B43-8706-80996EF1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292-A4F2-4841-B838-D51A0F7F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DDE-D53E-45EE-99AD-82715DA7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5E22-5EF3-4C25-B28C-677ADE146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31680"/>
            <a:ext cx="8532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32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9:30:23Z</dcterms:created>
  <dc:creator>Admin</dc:creator>
  <dc:description/>
  <dc:language>en-US</dc:language>
  <cp:lastModifiedBy>Admin</cp:lastModifiedBy>
  <dcterms:modified xsi:type="dcterms:W3CDTF">2009-04-17T20:13:24Z</dcterms:modified>
  <cp:revision>4</cp:revision>
  <dc:subject/>
  <dc:title>Snímek 1</dc:title>
</cp:coreProperties>
</file>