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6DE-D0F8-4556-9559-A62712EA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4B5-44F9-48DF-B417-237D759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0A1-EBA4-4940-B571-50AA1AA1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5FB-6664-474A-B0BD-EA329847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9EA-F21D-46B8-A85A-77C52F28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BD4-A29C-4B2D-BC98-1E9EAB19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DBE-F253-48D6-B7B5-B75F1AF9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44E-050E-4E0E-A6B4-19B6641F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7FF-08EA-463C-9F34-3CEC43CE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1C8-FE33-4C0F-8E7C-87EFACC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E7A-603B-4E25-8FE5-6594BD2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7F7-571D-4DC4-81A8-88CC91C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781-D49C-4D94-95AF-22DE28B3C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ps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ps13cas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2362320"/>
            <a:ext cx="35053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as G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tný čas = lokálny – 2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imný čas = lokálny – 1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ps14vrs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ps15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ps16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ps18vytvarani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ps19vytvoren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ps20podrobnosti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ps21stiahnut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ps0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ps10obchod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ps11obchod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ps12obchod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ps12obchod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ps12obchod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ps13cas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ps13cas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0:34:49Z</dcterms:created>
  <dc:creator>Admin</dc:creator>
  <dc:description/>
  <dc:language>en-US</dc:language>
  <cp:lastModifiedBy>Miroslav Kozuch</cp:lastModifiedBy>
  <dcterms:modified xsi:type="dcterms:W3CDTF">2012-03-12T16:44:28Z</dcterms:modified>
  <cp:revision>4</cp:revision>
  <dc:subject/>
  <dc:title>Snímek 1</dc:title>
</cp:coreProperties>
</file>