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EE0E-816A-41B6-946B-A4359A0F9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12A8-822E-46BA-8A0A-F3BE6E07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1A8D-B4B0-4745-A3BD-89CEDAE1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404A-1A63-42F1-AA10-12AB347A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DD2B-FB4C-4A25-B27E-1A49D092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7FDB-E453-414C-93D0-6ED988C6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F925-75DA-4F90-BE62-2BD099E2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EE61-29BA-4C4D-A3A0-51AD9B3B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E3E8-292F-4503-8BB5-3497EE07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7554-D6D4-4346-8E86-07E556DC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408D-8BA3-4A15-B865-AE630007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3DDA-4856-4B75-84B8-4B0154F2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ED13-4443-4946-B99E-951147E4C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31680"/>
            <a:ext cx="853272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53272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9:30:23Z</dcterms:created>
  <dc:creator>Admin</dc:creator>
  <dc:description/>
  <dc:language>en-US</dc:language>
  <cp:lastModifiedBy>Admin</cp:lastModifiedBy>
  <dcterms:modified xsi:type="dcterms:W3CDTF">2009-04-17T20:13:24Z</dcterms:modified>
  <cp:revision>4</cp:revision>
  <dc:subject/>
  <dc:title>Snímek 1</dc:title>
</cp:coreProperties>
</file>