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E132-023E-4BDE-B44D-4E89DA47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CE6E-B80C-458A-ABAD-AD6CCA52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E13D-5F90-4065-BC3D-9AE86E1F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D754-BB0D-4DEA-89EB-52878CFB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15AE-7EEB-474D-BF5C-32F13323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AD0B-346B-417D-B76B-D415C885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417F-C3A1-465F-9620-2F22D7A5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16EE-CD13-455B-9A5B-267068B7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B8B5-11C6-485A-8A74-68BDCE72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6208-BAAC-48CB-B4DD-69900556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205D-4CE7-4D42-9A87-7EF8A729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A1DD-F46F-4692-B248-2DC5BCBC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9233-D00D-4E28-A596-7AA361F0E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ps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ps13cas3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7319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57800" y="2362320"/>
            <a:ext cx="35053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as G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etný čas = lokálny – 2 hod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imný čas = lokálny – 1 hod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ps14vrs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gps15online1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gps16online1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gps18vytvaranie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gps19vytvorene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gps20podrobnosti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ps21stiahnut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ps02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ps10obchod1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ps11obchod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ps12obchod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ps12obchod2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ps12obchod3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gps13cas2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gps13cas1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00:34:49Z</dcterms:created>
  <dc:creator>Admin</dc:creator>
  <dc:description/>
  <dc:language>en-US</dc:language>
  <cp:lastModifiedBy>Miroslav Kozuch</cp:lastModifiedBy>
  <dcterms:modified xsi:type="dcterms:W3CDTF">2012-03-12T16:44:28Z</dcterms:modified>
  <cp:revision>4</cp:revision>
  <dc:subject/>
  <dc:title>Snímek 1</dc:title>
</cp:coreProperties>
</file>