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CC1D-C4AB-41B0-ABA2-672919EF7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E57A-EC9E-4934-A611-582B7E4E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1C90-0FE1-4C7D-AD49-6C1238E94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32AE-0320-460C-B3B5-D45A86E60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4B3F-FDC5-4DC0-B240-E53439F6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A490-6920-4E58-9F9A-8825EC88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B378-A433-4A76-AC83-603D1312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EC79-E652-4360-BF56-CD33E022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9F7A-5FD0-41CD-9C22-00DD9AF8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F03D-350C-417B-B0AC-A1B72C87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84A6-ECCA-4914-9F35-E9FDA137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176A-1BD2-4AC6-8E8A-DB5B3F41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1CF9-168B-4766-A9CE-60071E9EF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31680"/>
            <a:ext cx="853272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53272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19:30:23Z</dcterms:created>
  <dc:creator>Admin</dc:creator>
  <dc:description/>
  <dc:language>en-US</dc:language>
  <cp:lastModifiedBy>Admin</cp:lastModifiedBy>
  <dcterms:modified xsi:type="dcterms:W3CDTF">2009-04-17T20:13:24Z</dcterms:modified>
  <cp:revision>4</cp:revision>
  <dc:subject/>
  <dc:title>Snímek 1</dc:title>
</cp:coreProperties>
</file>