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F86-B7BC-4CFF-82A2-805BBAA4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650-D953-4201-9B3B-1472DF6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47D-2F37-45E3-BA01-8407BF75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C6A-304F-4787-8F37-0311E9D4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DC0-B95C-4E48-B2BB-24DEC61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9B2-659C-4E40-AA2C-DEFFF922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E57-F386-4E77-8A65-DE6A3F8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9F5-D9C0-408F-AF11-5099D039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3FD-36E9-45CF-9EEA-F3DD43CE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D91-93EF-4B0D-8B7A-6FA7B9F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15A-9153-4483-822F-36F27A1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61C-452D-45D1-9321-05ED6ACA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C62-26C4-4BB7-95B1-2F41AF47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s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ps13cas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2362320"/>
            <a:ext cx="3505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 G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tný čas = lokálny – 2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imný čas = lokálny – 1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ps14vrs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ps15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ps16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ps18vytvarani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ps19vytvoren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ps20podrobnosti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ps21stiahnut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s0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s10obchod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s11obchod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s12obchod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s12obchod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s12obchod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s13cas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ps13cas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0:34:49Z</dcterms:created>
  <dc:creator>Admin</dc:creator>
  <dc:description/>
  <dc:language>en-US</dc:language>
  <cp:lastModifiedBy>Miroslav Kozuch</cp:lastModifiedBy>
  <dcterms:modified xsi:type="dcterms:W3CDTF">2012-03-12T16:44:28Z</dcterms:modified>
  <cp:revision>4</cp:revision>
  <dc:subject/>
  <dc:title>Snímek 1</dc:title>
</cp:coreProperties>
</file>